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1DDA-AD82-4E44-9C0D-F639408C4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B463-EBE4-4E69-B992-49F800860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E05-2E86-4353-A740-4AFF2366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2BB-C090-48C5-83E6-7250D395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7B9-7927-418C-AA0E-22E289FF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C10-A2F9-4000-B3A2-1F4C560E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4423-CD39-40F4-9DD9-B51F0F88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C1D-F89D-4345-AB5D-9A924119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91DB-E331-46F5-AD25-A2C2BF2B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9C6-5A45-44FE-A4F0-F1AAD291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77D8-9321-42BA-BE7E-BA4DCBA1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4CC-3D28-4A19-96D2-E8D3019B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24B5-32B0-4F97-8CA2-9433FB1D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7A73-3A60-4015-823E-98AC0910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7E03-5E9C-4D80-9308-7728A3A1E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3 Moving from San Francisco to Iowa would b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ternat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trareg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terreg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orced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et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3 Moving from San Francisco to Iowa would b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nternat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trareg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Interregional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orced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Net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4 The largest source of international migran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4 The largest source of international migran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03_02"/>
          <p:cNvPicPr/>
          <p:nvPr/>
        </p:nvPicPr>
        <p:blipFill>
          <a:blip r:embed="rId1"/>
          <a:stretch/>
        </p:blipFill>
        <p:spPr>
          <a:xfrm>
            <a:off x="533520" y="642960"/>
            <a:ext cx="784836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5 The most likely destination of international migran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5 The most likely destination of international migrant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03_03"/>
          <p:cNvPicPr/>
          <p:nvPr/>
        </p:nvPicPr>
        <p:blipFill>
          <a:blip r:embed="rId1"/>
          <a:stretch/>
        </p:blipFill>
        <p:spPr>
          <a:xfrm>
            <a:off x="0" y="517680"/>
            <a:ext cx="914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6 In which decade was immigration into the United States the low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8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0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193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6 In which decade was immigration into the United States the low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188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190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193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humance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3_04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7 Which country has been the largest source of immigrants from Asia to the United States over the last two deca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7 Which country has been the largest source of immigrants from Asia to the United States over the last two decad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Ko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3_05"/>
          <p:cNvPicPr/>
          <p:nvPr/>
        </p:nvPicPr>
        <p:blipFill>
          <a:blip r:embed="rId1"/>
          <a:stretch/>
        </p:blipFill>
        <p:spPr>
          <a:xfrm>
            <a:off x="0" y="1298520"/>
            <a:ext cx="91440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8 The greatest number of undocumented immigrants in the United States com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8 The greatest number of undocumented immigrants in the United States com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ribb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9  Cuban emigrants to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re considered political refug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ypically support Fidel Ca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ettle primarily in and around New York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re usually turned back at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sually try to return to C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9  Cuban emigrants to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Are considered political refug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ypically support Fidel Ca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ettle primarily in and around New York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re usually turned back at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Usually try to return to Cu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10 Which of the following was a new trend in western countries in the 1990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rban to sub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ural to 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unterurb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rban to 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uburban to sub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10 Which of the following was a new trend in western countries in the 1990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rban to sub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ural to 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Counterurban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rban to 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uburban to suburban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humance 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-nomadic he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5334120" y="2057400"/>
            <a:ext cx="259056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609480" y="2666880"/>
            <a:ext cx="3429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an example of counter-urbaniz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Rural to urban mig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Urban to rural mig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Suburban to urban mig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Urban to suburban mig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 Rural to suburban 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an example of counter-urbaniz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Rural to urban mig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) Urban to rural mig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Suburban to urban mig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Urban to suburban mig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 Rural to suburban 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density in Egypt is where? Why ther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828800" y="1523880"/>
            <a:ext cx="60199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1 Which of the following is the strongest push factor for international mig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litical in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ow liv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evere wea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adequate supplies of agricultural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amily disagre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1 Which of the following is the strongest push factor for international migr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Political in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ow liv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evere wea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adequate supplies of agricultural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Family disagre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2 In 2007, which of the following countries had the greatest number of internal refuge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raz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3.02 In 2007, which of the following countries had the greatest number of internal refuge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Braz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Ira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03_01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DoTS</cp:lastModifiedBy>
  <dcterms:modified xsi:type="dcterms:W3CDTF">2012-11-04T16:30:41Z</dcterms:modified>
  <cp:revision>84</cp:revision>
  <dc:subject/>
  <dc:title>CRS Chapter 4</dc:title>
</cp:coreProperties>
</file>